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F8D-BB83-46A0-AD03-309A41F5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462-799A-434F-A492-DFEF31D2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EAA-16F9-44F1-84E0-E27CEF51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E61-3AA6-4C38-BA38-CE05BE93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C8D-6BC2-4DFC-87DE-D9AC8176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0FD1-D9F5-4930-8C6A-08487B4D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AE29-0B0A-4A4C-9477-9F6834C0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E902-6218-480B-8DFD-97679D78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CF6F-A0A2-42A6-A62F-E4A85625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28B1-9334-4A28-A78A-523B897F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93F2-83E5-42AE-8DE6-D526DEB5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430-D2ED-4D8A-9C9E-0F451884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EECC-EB3E-4661-ADD9-B0B2715B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5D63-B1F5-4522-AA30-E9717361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5188-DAB8-4B41-953A-3A0A704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9650-11B6-48D5-A457-84E23BAB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1986-EFAB-471B-9370-DDC117F2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4F7-2328-45CD-B795-3671E52A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BE1-84D0-43C4-86BE-10211AA7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505-07FD-4170-A76D-9E868C3C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F06-8F80-4EDC-84A2-A7F5C4A0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176-BF9F-46DB-8C6F-F05407B5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3FB-A43D-4550-B40D-37BFF7F4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A96-EA0C-4BA3-BDB7-5247729F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1495-FC5D-4B65-8A79-95C177331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78B-1891-4DAE-8331-7D7FF2237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66"/>
                </a:solidFill>
                <a:latin typeface="Chiller"/>
              </a:rPr>
              <a:t>What’s happening today . . .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iller"/>
              </a:rPr>
              <a:t>Entrance task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Think:  Would I be ready for a quiz tod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iller"/>
              </a:rPr>
              <a:t>Today’s topic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: Absolutism in Russia –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Peter the Great pictogra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iller"/>
              </a:rPr>
              <a:t>Homework </a:t>
            </a:r>
            <a:r>
              <a:rPr b="1" lang="en-US" sz="3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Thematic essay due Fri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iller"/>
              </a:rPr>
              <a:t>Homework for the weekend:</a:t>
            </a:r>
            <a:r>
              <a:rPr b="1" lang="en-US" sz="3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h. 18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 flipV="1">
            <a:off x="762120" y="609480"/>
            <a:ext cx="7391160" cy="548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>
            <a:off x="762120" y="762120"/>
            <a:ext cx="327636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82440" y="4343400"/>
            <a:ext cx="17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eter the G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1672-17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. 1696-17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32040" y="304920"/>
            <a:ext cx="73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pperplate Gothic Light"/>
              </a:rPr>
              <a:t>Events of his reign &amp; examples of absolu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8120" y="76212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ed nobles to shave beards and give up backward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forced labor to build St. Petersbu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the church under his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t a strong nav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52280" y="13716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pperplate Gothic Light"/>
              </a:rPr>
              <a:t>Condition of Rus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pperplate Gothic Light"/>
              </a:rPr>
              <a:t>when he became ru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010280" y="167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pperplate Gothic Light"/>
              </a:rPr>
              <a:t>Re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927760" y="2286000"/>
            <a:ext cx="3216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nized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ced western technology and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red engineers, ship builders, teachers to westernize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ified Russian alphab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quired a “window to the west” on the Baltic and a warm water port at St. Petersbur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ced the potato to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ised the status of wo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9" descr="http://www.lib.utexas.edu/photodraw/portraits/pgreat.jpg"/>
          <p:cNvPicPr/>
          <p:nvPr/>
        </p:nvPicPr>
        <p:blipFill>
          <a:blip r:embed="rId1"/>
          <a:stretch/>
        </p:blipFill>
        <p:spPr>
          <a:xfrm>
            <a:off x="3979800" y="2590920"/>
            <a:ext cx="1182600" cy="1676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0"/>
          <p:cNvSpPr/>
          <p:nvPr/>
        </p:nvSpPr>
        <p:spPr>
          <a:xfrm>
            <a:off x="228600" y="2743200"/>
            <a:ext cx="304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ssia was a land of ser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lated from western Europe by Mongol rule, geography, and relig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backward country with no Renaiss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logically behind the w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Chiller"/>
              </a:rPr>
              <a:t>Homework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Thematic essay due Friday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The Scientific Revolu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h. 18-1 due ?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2:12:10Z</dcterms:created>
  <dc:creator>Susan Vanderpool</dc:creator>
  <dc:description/>
  <dc:language>en-US</dc:language>
  <cp:lastModifiedBy>tech</cp:lastModifiedBy>
  <dcterms:modified xsi:type="dcterms:W3CDTF">2011-11-15T14:12:52Z</dcterms:modified>
  <cp:revision>17</cp:revision>
  <dc:subject/>
  <dc:title>PowerPoint Presentation</dc:title>
</cp:coreProperties>
</file>